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A97-0C82-4E03-A4AA-F3ED4A7F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4DE-CB62-4537-AA3E-60190218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A5F50-208F-46EB-8973-0C11428F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3CCB9-FB83-4C95-A0C0-5B1B2D1E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91927-0520-4164-9075-21A3882A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6EEC4-F7A2-4381-BACE-DF1661FB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76133-FF51-4F8B-8BCF-32734C93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48ACA-7D6C-4117-9460-6BF292B0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A7EFB-5599-451A-AF04-FCA568C7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B546F-0920-4057-97FF-73D5F0F9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78C4C-D81C-4C35-9191-7D65E1F0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F6164F-E367-4C6D-908C-74399262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4D8-122D-4062-9383-5EA9EF4A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008C1-8581-48C4-B46B-EA13D773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C9B26-0605-44B0-94F0-77701B2F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995F0-0FB1-4FEB-9982-8A3EE2E5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36A5D-28AD-43C6-A719-C64B0881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467D6-987E-4879-B5D8-49ADFF85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C75CD-893A-4E24-B5AC-05F3496A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C2350-2DA9-44FF-983C-46C5445C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F56C7-C44C-4EA1-B467-4D54C2CF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C7B9C-A77B-4523-B2E6-2EDF67CB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FC451-FB77-43C9-87ED-F8172D5C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1CE-1CC1-4C9D-B3F2-7D3CA81D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82EC1-DEEB-48EB-8116-CB946938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7CE74-74F0-460B-B045-10D9E6B6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EF9FC-3824-4AFC-8A6F-092E20FD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CC37C-7BA4-4DF5-ABA7-F71A07FC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46120-A306-4534-9C3D-90858B88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8D6D7-F0D0-4EE4-9658-9FED874B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78220-A119-4AA5-B248-84DD86CE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7B4D7-607B-4F43-90B0-66482820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44904-4008-4CA0-9D59-D5F8A99B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A036A-7403-489D-A726-2FDC47B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9A7B-A73C-4C64-AD5E-3D453400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F631D-5ADC-4717-A50F-9D021A75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C793D-7807-40C2-8AF8-5B996A91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49B82-9F8A-402A-AF26-10F6A418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3D4BC-912A-496B-847A-914D7D8E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F4B3F-21FC-4BE6-965B-BFD10DA1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34934F-1904-4DF5-AAD2-BBB1FC44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F32F0-BC28-44F2-9AFE-27BD9CB6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FCBE8-0D08-475B-B0EA-7E3CABCF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46000-D435-4522-B78E-AF42A0CA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A13F0-4839-4D1E-80A7-275E7B89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846C-8955-4E65-B9C9-4DD6AEE1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29AA5-0716-439A-A079-BCFA1FBE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F2128-067A-4675-9A15-35F46699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22474-32A2-4B83-AF7E-86A95C5A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346DB4-17B1-4312-A401-27D89CB2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B5612-711D-4AA9-95EF-7F2A8902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9ACD-5F4C-4AC7-BFED-D3B01CC2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B138-A8AB-4D41-A0D3-7133007F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4D73-0964-44B9-BC99-5A7B46B5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132F-E4AA-4443-B85C-7D59D70D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BCDC-24B6-4A25-B4A1-68E2FC7E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729-57FB-42EA-B42E-3C44D9EF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D4D6-5FE6-429E-A61F-71AE8FA6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541F-3146-4DEB-A625-7BE0F775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C322-A06F-4C6B-95B9-D4C17F63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093F-2375-4A73-9E20-896987B3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E239-F5AF-4F10-B21E-86ED281F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A26A5-E7FE-4539-A82F-34208AFC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5319-2ED4-4826-87A7-125B7460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26107-5DC4-4B68-86C1-B63EFB97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AD3E5-5DCB-4D61-8980-BEF10B49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C8776-0B74-435C-B37D-E2BE9B99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DA8-69F5-4D79-976D-3558346A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B203C-7A7E-4097-8FF7-793E62CA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DF72-20D3-43BC-A35B-5187A9D2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ED234-BA7E-43A7-B1AB-2DF95BAD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2F450-5782-49AE-BDFE-75A6B691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614E-67D4-476F-BB4A-D9F1DFA9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7AAE-3A4F-4A83-8C9D-D016F397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9C2F-B956-4654-9C34-0F874567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7BB02-7381-45E2-9AED-C0BC35FC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0FC7D-E2A5-475A-8FC9-B20B3F22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FF0D5-660C-47F3-9A1F-003E8176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0FA-4164-4454-9105-5FB9B2A1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AF6D5-EB52-48E8-A80D-D61AC82E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2C3DE-2045-4CE0-B752-E018F76D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6A8E6-C821-41E3-8131-1322AAD6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A8055-1F88-416D-B370-23647C48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28F57-B29A-46BB-9610-6F757F4B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8ACFF-FBEA-40B4-BDDB-76B4108F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DE0C7-056B-40E9-9AC5-0C3F9525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BBE86-0E46-4874-8BB4-D76BBA3C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9DE20-E300-4C06-BCE3-AEAB554D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F2AA7-2078-491D-879D-C8A51769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860-C7B1-47CE-B76F-99B786F7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9F9BD-1758-43F2-AA7F-F5CE0589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27B54-36FC-4330-ADE4-BE163489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256A2-C04B-4877-9BD1-46660E8D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4799B-A1C5-463B-B266-FC5A6453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2F3BA-136A-4E01-A46E-6EA6E56A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5711D-F46B-4C67-95E0-389BB8EA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31AEB-3727-4273-8D88-E0B3FE7D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E1468-C899-4401-8C1A-B98E1180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1B08A-65E7-4E82-A0D7-9034D689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6B00E-F97C-4AC4-A95D-F3F028BB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BD7-0FAC-4274-88BD-632EF35A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536CD-A471-40C6-AC31-2A0EC93F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BA13E-F9FB-4B41-A38E-0DB55C8F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7B243-BDA7-4254-B2BB-8321B7FA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8EE05-AFF7-41E0-93EF-630C1D36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5D9A6-A5F1-45C8-9EB1-0411E875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131F6-CA2D-4950-829E-7C06B207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DC9D9-0C3C-422C-B00D-BA7BC4AC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B0E3B-C129-403C-BD97-35C7639D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12B7A-1C12-407C-8701-466039DF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97B1A-E3C9-4748-87B8-78E7BA56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FB7-4E5D-42BE-896B-133D1414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F30F3-C804-4792-982B-2493FE1D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00906-4F07-47E8-B2E5-FA596A09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4E67B-28B5-4165-94E6-B05EC00E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ACDED-8999-4747-82B6-42C63DB0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9C022-8A1C-4AAB-ACFF-AB69759D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E03E4-CCF8-49A1-AA05-00D31A92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071B4-68F8-4C48-8D5C-576D1D6A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540F6-C15E-40BC-B9FD-4C28F50C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681F5-798B-476F-85F8-D477900E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CF73B-313C-4CF1-B5D8-B21302B8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92B-D4A8-4E71-94BD-E764145D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FF53F-8656-4914-B5E2-07CA37F4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CEB4F-F815-49E5-B1EA-0DFFA8DD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FE938-BE74-48A4-B053-23C5DF45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7DA46-F69E-41B2-B473-9744FD95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46027-599A-43BC-A00C-5371FBE1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0F8CA-301F-4238-83FE-175A98F8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FFC78-BA76-444E-9C5C-F933E431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27491-A45C-4FEB-93C3-FCA48171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57890-8576-450F-97F6-777EB6D3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C93F5-397A-422C-BE88-C4E45BB1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430-7F9E-4153-BDBA-8BD20EF3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0F81E-EBD9-43BF-B4E9-43576AE6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A4E95-F9F4-42BB-B30A-3152DA2D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BCAE6-E137-4BD1-9953-79F0DE59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66E04-2B80-4C2F-A418-F159C873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9098C-FF53-4C4A-BDFF-B76DF7FC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389CE-0EB5-452A-B764-18DED6DA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40F93-69BE-42E3-A179-051D953D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F16F7-A712-4BCB-A85D-2172BA7A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B001B9-205B-4AEF-BAD0-889C762E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96493-53FF-451C-AE8B-249A456D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012E-309C-43DB-8455-F52CB56B92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1A96-A69A-4A02-8BD0-B294A6702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CC16-6EC8-453F-A4EA-9B09179DAC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56F8-43D1-4404-9D5D-4D2F9B5B6B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3B5E-8243-47FF-9798-6D8F1C109D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A995-CFED-41D1-B0E2-E3FE9FFA1D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0026-599F-4414-ABB9-28EA1D1415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B228-BED8-4AD7-95F3-8556ACD6F6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1AAE-9652-4A01-A9C6-C3DEF03259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CB10-D93A-49AF-8D61-C5E4830E42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5E1C-693F-4585-B4EB-2235763618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E390-B465-492D-8BE0-21B5E8EED6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anjuan.edu/files/filesystem/Marzano.pps" TargetMode="External"/><Relationship Id="rId2" Type="http://schemas.openxmlformats.org/officeDocument/2006/relationships/hyperlink" Target="http://www.uhseport.net/published/k/sh/kshaw/collection/1/25/upload.c-kshaw-1n25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ets.gc.k12.va.us/VSTE/2008/3effortandrecognition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066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RESENTED BY JANE COOK,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TCONN LITERACY &amp; TECHNOLOGY COACH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ED FROM: </a:t>
            </a:r>
            <a:r>
              <a:rPr b="0" lang="en-US" sz="1500" spc="-1" strike="noStrike" u="sng">
                <a:solidFill>
                  <a:srgbClr val="00a3d6"/>
                </a:solidFill>
                <a:uFillTx/>
                <a:latin typeface="Times New Roman"/>
                <a:ea typeface="Times New Roman"/>
                <a:hlinkClick r:id="rId1"/>
              </a:rPr>
              <a:t>WWW.SANJUAN.EDU/FILES/FILESYSTEM/MARZANO.PPS </a:t>
            </a:r>
            <a:r>
              <a:rPr b="1" i="1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WWW.UHSEPORT.NET/PUBLISHED/K/SH/KSHAW/COLLECTION/1/25/UPLOAD.C-KSHAW-1N25.PPT 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16349"/>
                </a:solidFill>
                <a:latin typeface="Georgia"/>
              </a:rPr>
              <a:t>Reinforcing Effort and </a:t>
            </a:r>
            <a:br>
              <a:rPr sz="4300"/>
            </a:br>
            <a:r>
              <a:rPr b="1" lang="en-US" sz="4300" spc="-1" strike="noStrike">
                <a:solidFill>
                  <a:srgbClr val="d16349"/>
                </a:solidFill>
                <a:latin typeface="Georgia"/>
              </a:rPr>
              <a:t>Providing Recognition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6" descr="MCj02813330000[1]"/>
          <p:cNvPicPr/>
          <p:nvPr/>
        </p:nvPicPr>
        <p:blipFill>
          <a:blip r:embed="rId3"/>
          <a:stretch/>
        </p:blipFill>
        <p:spPr>
          <a:xfrm>
            <a:off x="6858000" y="4376880"/>
            <a:ext cx="186516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1219320" y="2286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533520" y="17524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ople generally attribute success at any given task to one of four cau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752480" y="2743200"/>
            <a:ext cx="5181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b5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b5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Othe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b5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b5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L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990720" y="4952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15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5b5c"/>
                </a:solidFill>
                <a:latin typeface="Tahoma"/>
              </a:rPr>
              <a:t>Three of these four beliefs ultimately inhibit achievement – (Covington 1983,19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Generalizations from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1219320" y="20574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t all students realize the importance       of believing in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819520" y="53341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dan,Midgley, &amp; Anderman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447920" y="342900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The implication is that teachers should explain and exemplify the “effort belief” to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1295280" y="28195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Students who were taught about the relationship between effort and achievement increased their achievement more than students who were taught techniques for time management and comprehension of new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380880" y="59436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657600" y="55627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n Overwalle &amp; De Metsenaere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1219320" y="53352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ahoma"/>
              </a:rPr>
              <a:t>Generalizations from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838080" y="160020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ents can learn to change their beliefs to an emphasis on eff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1143000" y="2286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commendations for Classroom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1409760" y="2514600"/>
            <a:ext cx="6934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re personal examples of times you have succeeded because you did not giv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re examples of well-known athletes and others  who succeeded mainly because they did not giv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ve students share personal examples of times they succeeded because they did not give up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1523880" y="144792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064"/>
                </a:solidFill>
                <a:latin typeface="Tahoma"/>
              </a:rPr>
              <a:t>Students need to be taught that effort can improve achie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2286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commendations for Classroom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533520" y="22096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studen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ffort and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533520" y="3352680"/>
            <a:ext cx="70102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064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b5064"/>
                </a:solidFill>
                <a:latin typeface="Tahoma"/>
              </a:rPr>
              <a:t>Charting their effort and achievement will reveal patterns and help students see the connection between the tw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064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609480" y="30492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Reinforcing Effort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990720" y="2819520"/>
            <a:ext cx="7315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s know what is exp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ir and credible evaluat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rriculum is geared to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 responsibility for work is emphas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ults are fixed, time v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cognition of accomplishment is util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12952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064"/>
                </a:solidFill>
                <a:latin typeface="Tahoma"/>
              </a:rPr>
              <a:t>ORGANIZING CLASSROOMS FOR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863640" y="353880"/>
            <a:ext cx="7823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roviding Recog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1144440" y="1755720"/>
            <a:ext cx="731844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1676520" y="35053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1600200" y="2286000"/>
            <a:ext cx="678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5064"/>
                </a:solidFill>
                <a:latin typeface="Papyrus"/>
              </a:rPr>
              <a:t>Providing recognition for attainment of specific goals not only enhances achievement, but it stimulates 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219320" y="1828800"/>
            <a:ext cx="731520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wards do not necessarily have a negative effect on intrinsic moti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ward is most effective when it is contingent on the attainment of some standard of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stract symbolic recognition is more effective than tangible rewa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838080" y="457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commendations for Classroom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1600200" y="198108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stablish a rationale for reinforcing effort and providing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1584360" y="338616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llow guidelines for effective and ineffective pra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1600200" y="4376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nk effort to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1600200" y="50292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se the pause, prompt, and praise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7b9899"/>
                </a:solidFill>
                <a:latin typeface="Georgia"/>
              </a:rPr>
              <a:t>Effective praise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4560" y="15238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delivered contingentl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pecifies the particulars of the accomplishmen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ws spontaneity, variety and other signs of credibility that suggest clear attention to the student's accomplishmen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wards attainment of specified performance criteria (which can include effort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ides information to students about their competence or the value of their accomplishment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ients students toward better appreciation of their own task-related behavior and thinking about problem solv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bjectiv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 a result of participating in this workshop, teachers will be able to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fine the purpose of reinforcing effort and providing recogn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examples of how teachers reinforce effort and provide recognitio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resources that will support their work with students to reinforce effort and provide recogn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7b9899"/>
                </a:solidFill>
                <a:latin typeface="Georgia"/>
              </a:rPr>
              <a:t>Ineffective praise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delivered randomly or unsystematicall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restricted to global positive reac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ws a bland uniformity that suggests a conditioned response made with minimal atten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wards mere participation, without consideration of performance processes or outcom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ides no information at all or gives students information about their statu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ients students toward comparing themselves with others and thinking about compet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7b9899"/>
                </a:solidFill>
                <a:latin typeface="Georgia"/>
              </a:rPr>
              <a:t>Ineffective praise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4920" y="17524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Uses the accomplishments of peers as the context for describing a student's present accomplishments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s given without regard to the effort expended or the meaning of the accomplishment (for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student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ttributes success to ability alone or to external factors such as luck or (easy) task difficulty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sters exogenous attributions (students believe that they expend effort on the task for external reasons - to please the teacher, win a competition or reward, etc.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cuses students' attention on the teacher as an external authority figure who is manipulating them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trudes into the ongoing process, distracting attention from task-relevant behavior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itle 1"/>
          <p:cNvSpPr/>
          <p:nvPr/>
        </p:nvSpPr>
        <p:spPr>
          <a:xfrm>
            <a:off x="533520" y="30492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a3d6"/>
                </a:solidFill>
                <a:uFillTx/>
                <a:latin typeface="Georgia"/>
                <a:ea typeface="ＭＳ Ｐゴシック"/>
                <a:hlinkClick r:id="rId1"/>
              </a:rPr>
              <a:t>Examples of How Technology Can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Content Placeholder 2"/>
          <p:cNvSpPr/>
          <p:nvPr/>
        </p:nvSpPr>
        <p:spPr>
          <a:xfrm>
            <a:off x="1600200" y="1371600"/>
            <a:ext cx="7238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ail:  Teachers can send positive notes to parents 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cher Webpages for posting stud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d processing software to create awards and 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3" descr="readingaward.jpg"/>
          <p:cNvPicPr/>
          <p:nvPr/>
        </p:nvPicPr>
        <p:blipFill>
          <a:blip r:embed="rId2"/>
          <a:stretch/>
        </p:blipFill>
        <p:spPr>
          <a:xfrm>
            <a:off x="228600" y="4572000"/>
            <a:ext cx="2603520" cy="19684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earubric.jpg"/>
          <p:cNvPicPr/>
          <p:nvPr/>
        </p:nvPicPr>
        <p:blipFill>
          <a:blip r:embed="rId3"/>
          <a:stretch/>
        </p:blipFill>
        <p:spPr>
          <a:xfrm>
            <a:off x="6781680" y="4343400"/>
            <a:ext cx="1978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dified Jigsaw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unt off by 10’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oin with the other people who have the same number as you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hoose a facilitator, scribe, reporter, timekeeper and gatekeep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scuss and research your assigned topic related to Reinforcing Effort or Providing Recogn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are a presentation on your assigned topic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066680" y="501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NOWBALL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609480" y="1905120"/>
            <a:ext cx="79250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5064"/>
                </a:solidFill>
                <a:latin typeface="Tahoma"/>
              </a:rPr>
              <a:t>List the reasons why Reinforcing Effort and Providing Recognition are included in the nine categories of Instructional Strategies proven to increase student achie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one reason per person.  When directed, crumple up your paper and toss it to another person who will add another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380880" y="12193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5b5c"/>
                </a:solidFill>
                <a:latin typeface="Tahoma"/>
              </a:rPr>
              <a:t>On the Snowball Activity handout/Exit Ca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CKING FOR UNDERSTAN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2666880" y="1219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3d6"/>
                </a:solidFill>
                <a:latin typeface="Tahoma"/>
              </a:rPr>
              <a:t>Base Group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384200" y="2057400"/>
            <a:ext cx="71629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d the four examples of providing recognition in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your group, evaluate each example according to the Guidelines for Pra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if recognition is Effective or Ineff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ite the specific criteria and explain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vise any that are inef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2"/>
          <p:cNvSpPr/>
          <p:nvPr/>
        </p:nvSpPr>
        <p:spPr>
          <a:xfrm>
            <a:off x="1219320" y="2362320"/>
            <a:ext cx="65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1060560" y="129528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T Lt"/>
              </a:rPr>
              <a:t>Example 1: </a:t>
            </a:r>
            <a:r>
              <a:rPr b="1" lang="en-US" sz="2400" spc="-1" strike="noStrike">
                <a:solidFill>
                  <a:srgbClr val="000000"/>
                </a:solidFill>
                <a:latin typeface="Albertus MT Lt"/>
              </a:rPr>
              <a:t>Dana was unable to make any connections among the elements using a table of characteristics. Mr. Mulder suggests she focus on one characteristic and look for connections. When he returns later, Dana explains how she had figured out a way to group the elements according to boiling point. Mr. Mulder congratulates her on on finding a valid conn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355760" y="642960"/>
            <a:ext cx="63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eacher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143000" y="430848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T Lt"/>
              </a:rPr>
              <a:t>Example 2: </a:t>
            </a:r>
            <a:r>
              <a:rPr b="1" lang="en-US" sz="2400" spc="-1" strike="noStrike">
                <a:solidFill>
                  <a:srgbClr val="000000"/>
                </a:solidFill>
                <a:latin typeface="Albertus MT Lt"/>
              </a:rPr>
              <a:t>Mr. Mulder circulates as students are working in small groups.  He pauses at Station 1 and comments, “Nice work on your calculations.”  At Station 2, he says, “Nice work on your graphs.” At Station 3, he says, “Nice work on your calculations</a:t>
            </a:r>
            <a:r>
              <a:rPr b="0" lang="en-US" sz="2400" spc="-1" strike="noStrike">
                <a:solidFill>
                  <a:srgbClr val="000000"/>
                </a:solidFill>
                <a:latin typeface="Albertus MT L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1584360" y="642960"/>
            <a:ext cx="70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acher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1371600" y="1523880"/>
            <a:ext cx="687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T Lt"/>
              </a:rPr>
              <a:t>Example 3: </a:t>
            </a:r>
            <a:r>
              <a:rPr b="1" lang="en-US" sz="2400" spc="-1" strike="noStrike">
                <a:solidFill>
                  <a:srgbClr val="000000"/>
                </a:solidFill>
                <a:latin typeface="Albertus MT Lt"/>
              </a:rPr>
              <a:t>“You really did a good job working through all of the steps and checking your answers for this problem.  I know you’ve had difficulties with multi-step calculations before and sometimes settled for getting any answer down on paper, even if it wasn’t correct. Your determination with the third task really showe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447920" y="4648320"/>
            <a:ext cx="67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4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Good job. Jackson. Keep it up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-Da-Bing Warm-up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e one short sentence that tells about something that they did this morn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e this sentence quickly; don’t worry about making it a long descriptive senten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-Da-Bing - Now think about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11120" y="1523520"/>
            <a:ext cx="873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here your feet went  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hat you saw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hat you though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Revise your sentence.  Make it more than one sentence if necessary.  Tell where your feet were, what you saw, and what you were thinking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NOTE:  The Ba-Da-Bing handout explains this for you and gives you examples if you’d like to try it with your students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2" descr="C:\Documents and Settings\jcook.EASTCONN\Local Settings\Temporary Internet Files\Content.IE5\5OP4WVKR\MCj04160140000[1].wmf"/>
          <p:cNvPicPr/>
          <p:nvPr/>
        </p:nvPicPr>
        <p:blipFill>
          <a:blip r:embed="rId1"/>
          <a:stretch/>
        </p:blipFill>
        <p:spPr>
          <a:xfrm>
            <a:off x="4724280" y="1066680"/>
            <a:ext cx="1447920" cy="1408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C:\Documents and Settings\jcook.EASTCONN\Local Settings\Temporary Internet Files\Content.IE5\5OP4WVKR\MCj04038930000[1].wmf"/>
          <p:cNvPicPr/>
          <p:nvPr/>
        </p:nvPicPr>
        <p:blipFill>
          <a:blip r:embed="rId2"/>
          <a:stretch/>
        </p:blipFill>
        <p:spPr>
          <a:xfrm>
            <a:off x="2819520" y="198108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C:\Documents and Settings\jcook.EASTCONN\Local Settings\Temporary Internet Files\Content.IE5\SLV3VZGK\MCj04298270000[1].wmf"/>
          <p:cNvPicPr/>
          <p:nvPr/>
        </p:nvPicPr>
        <p:blipFill>
          <a:blip r:embed="rId3"/>
          <a:stretch/>
        </p:blipFill>
        <p:spPr>
          <a:xfrm>
            <a:off x="6095880" y="1981080"/>
            <a:ext cx="16002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-Da-Bing - Think, Pair, Sha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urn to a partner and Share your original and revised sentences with your partner.  Then discuss the following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y do you think I chose the Ba-Da-Bing as a warm-up activity?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connections can you make between Ba-Da-Bing and Effective Teaching Strategie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The Essential Nine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ategories Of Instructional Strateg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hat Affect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066680" y="1981080"/>
          <a:ext cx="7391520" cy="4098960"/>
        </p:xfrm>
        <a:graphic>
          <a:graphicData uri="http://schemas.openxmlformats.org/drawingml/2006/table">
            <a:tbl>
              <a:tblPr/>
              <a:tblGrid>
                <a:gridCol w="5313600"/>
                <a:gridCol w="2077920"/>
              </a:tblGrid>
              <a:tr h="110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ing similarities and differenc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e focused on this strategy earlier in the ye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1d7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ing and note ta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forcing effort and providing recognitio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e are focusing on this to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863640" y="353880"/>
            <a:ext cx="7823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einforcing Effort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roviding Recogn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1144440" y="1755720"/>
            <a:ext cx="731844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1676520" y="35053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838080" y="2133720"/>
            <a:ext cx="6782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Believing in effort can serve as a powerful motivational tool that students can apply to any situation.  Providing recognition helps students see how  effort affects outco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6" descr="MCj02813330000[1]"/>
          <p:cNvPicPr/>
          <p:nvPr/>
        </p:nvPicPr>
        <p:blipFill>
          <a:blip r:embed="rId1"/>
          <a:stretch/>
        </p:blipFill>
        <p:spPr>
          <a:xfrm>
            <a:off x="6858000" y="4376880"/>
            <a:ext cx="186516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1219320" y="3808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flecting on Curr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Beliefs and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1220760" y="1908000"/>
            <a:ext cx="731844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nk, Pair, Share - Turn to your neighbor and discus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do you reinforce students’ effort in your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is the purpose for reinforcing effort in the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makes reinforcing effort effective or ineffe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questions do you have about reinforcing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 wish I knew…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ys to encourage students so that they keep moving forwa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ys to help students put forth effo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as for increasing intrinsic motiv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ys to involve students in the feedback proc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to get the independent learners that we w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n-evaluative ways to recognize positive student efforts, accomplishments, and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9:13:01Z</dcterms:created>
  <dc:creator>jcook</dc:creator>
  <dc:description/>
  <dc:language>en-US</dc:language>
  <cp:lastModifiedBy>jcook</cp:lastModifiedBy>
  <dcterms:modified xsi:type="dcterms:W3CDTF">2009-05-06T15:52:18Z</dcterms:modified>
  <cp:revision>67</cp:revision>
  <dc:subject/>
  <dc:title>Reinforcing Effort and Providing  Recognition</dc:title>
</cp:coreProperties>
</file>